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3F40-835F-4E27-98FC-8A661A741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3DAB-D189-4C68-A83E-B15D06D716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9CA5-3230-4817-AF43-7998F770F2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F3B9-6796-4CA2-9D6F-574BE6F99E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D04-0563-40D4-819D-C52329A9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5A9-63D5-4433-BFC2-15EABBFC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40D-139D-4D9E-B220-062FE742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65F-43C2-4315-82C1-BB199FE1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8076-140D-4D1E-8A23-31946FBB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61C2-ABDD-4D46-B730-F5F67570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A5CB-66DA-4E0E-9367-87480BB6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01EE-5215-4449-BF7E-B2551416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AE4D-BA80-4990-9EF0-E7729BDC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C0AC-90CE-4985-8C42-DC7FA259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879A-1C77-4ED2-AF55-2AE70D21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842-BB7E-4160-93E2-B956C2A5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BA8B-8C26-4756-9535-127D3FC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3EB5-79D1-4BF2-869A-B4373BF8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1B00-C9AD-4715-9778-DFA97099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71B9-18B6-4E4F-962D-2ABDE136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5C59-0CCC-42F1-AA2B-471AAA09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249-BE82-4C28-B67A-6D28F0B3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B14-01A7-42CF-A727-C6BE78DA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F64-A0D2-4FF9-8EDA-B4AF6F74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B8D-5849-49D8-9A2B-803EE460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BC0-BB81-4989-8540-B815FE81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EC0-50BC-4CD7-A66A-55C76C34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24E-415D-40EB-BB4F-2DAFB37E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B4D1-06D4-4294-AEFD-1E52B2B14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097E-2DA0-48A4-BEB4-88BD3BA9D9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8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737000" y="838080"/>
            <a:ext cx="575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Геометрические фигу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архитектур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638680" y="2743200"/>
            <a:ext cx="3276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вторы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рофеев Мар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ченик 11-го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4952880" y="50292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Руководитель  про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арпова Кристи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Ивано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052520" y="6248520"/>
            <a:ext cx="15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Сыктывк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9" descr="1200849"/>
          <p:cNvPicPr/>
          <p:nvPr/>
        </p:nvPicPr>
        <p:blipFill>
          <a:blip r:embed="rId1"/>
          <a:stretch/>
        </p:blipFill>
        <p:spPr>
          <a:xfrm>
            <a:off x="228600" y="2514600"/>
            <a:ext cx="48243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План Исаакиевского собора в Санкт-Петербург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8458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ожно с уверен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казать, что в основ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рама лежат квадра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торые придают е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тойкости и равновес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plan_of_st__isaac27s_cathedral"/>
          <p:cNvPicPr/>
          <p:nvPr/>
        </p:nvPicPr>
        <p:blipFill>
          <a:blip r:embed="rId1"/>
          <a:stretch/>
        </p:blipFill>
        <p:spPr>
          <a:xfrm>
            <a:off x="0" y="1700280"/>
            <a:ext cx="4608360" cy="41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356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построении 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тянутого ввер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пола использовала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кая фигура, как цилин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f_7053623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435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постро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усских церкв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шатрового сти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рхитекто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сомненн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меняли фигу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ямоуголь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араллелепипед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линдры, конус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ирамиды и друг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080124182808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48320" y="1066320"/>
            <a:ext cx="449568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азовая часть здания представляет собой невыпуклую прямую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изму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Призма является невыпуклой, благодаря  выступам, которые заполнены вертикальными рядами ок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3" descr="klub_rusakova1"/>
          <p:cNvPicPr/>
          <p:nvPr/>
        </p:nvPicPr>
        <p:blipFill>
          <a:blip r:embed="rId1"/>
          <a:stretch/>
        </p:blipFill>
        <p:spPr>
          <a:xfrm>
            <a:off x="0" y="1219320"/>
            <a:ext cx="4648320" cy="3247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0" y="4952880"/>
            <a:ext cx="472428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дание клуба имени И.В.Русакова в Москве. Это здание построено в 1929 г. по проекту архитектора К.Мельникова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480" y="15228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которые архитектурные сооружения имеют довольно простую форму. Например, башня с часами, которая является обязательным атрибутом любого американского университета. Она имеет форму прямой четырехугольной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изм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которую еще называют прямоугольны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аллелепипедо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3" descr="bashn_chas11"/>
          <p:cNvPicPr/>
          <p:nvPr/>
        </p:nvPicPr>
        <p:blipFill>
          <a:blip r:embed="rId1"/>
          <a:stretch/>
        </p:blipFill>
        <p:spPr>
          <a:xfrm>
            <a:off x="0" y="0"/>
            <a:ext cx="4438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5228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о чаще всего в архитектурном сооружении сочетаются различные геометрические фигуры. Например, в Спасской башне Московского кремля в основании можно увидеть прямой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аллелепипед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переходящий в средней части в фигуру, приближающуюся к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илиндру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завершается же о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ирамидо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1781494"/>
          <p:cNvPicPr/>
          <p:nvPr/>
        </p:nvPicPr>
        <p:blipFill>
          <a:blip r:embed="rId1"/>
          <a:srcRect l="17812" t="1772" r="0" b="0"/>
          <a:stretch/>
        </p:blipFill>
        <p:spPr>
          <a:xfrm>
            <a:off x="0" y="0"/>
            <a:ext cx="399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перь, подкрепив примерами утверждение, можно с уверенностью сказать, что Геометрические фигуры – ОСНОВА АРХИТЕК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3" descr="7656603"/>
          <p:cNvPicPr/>
          <p:nvPr/>
        </p:nvPicPr>
        <p:blipFill>
          <a:blip r:embed="rId1"/>
          <a:stretch/>
        </p:blipFill>
        <p:spPr>
          <a:xfrm>
            <a:off x="5796000" y="4114800"/>
            <a:ext cx="3348000" cy="2516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132196"/>
          <p:cNvPicPr/>
          <p:nvPr/>
        </p:nvPicPr>
        <p:blipFill>
          <a:blip r:embed="rId2"/>
          <a:stretch/>
        </p:blipFill>
        <p:spPr>
          <a:xfrm>
            <a:off x="0" y="2133720"/>
            <a:ext cx="3492360" cy="2620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324183_25"/>
          <p:cNvPicPr/>
          <p:nvPr/>
        </p:nvPicPr>
        <p:blipFill>
          <a:blip r:embed="rId3"/>
          <a:stretch/>
        </p:blipFill>
        <p:spPr>
          <a:xfrm>
            <a:off x="2050920" y="4508640"/>
            <a:ext cx="2935440" cy="234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080124182808"/>
          <p:cNvPicPr/>
          <p:nvPr/>
        </p:nvPicPr>
        <p:blipFill>
          <a:blip r:embed="rId4"/>
          <a:stretch/>
        </p:blipFill>
        <p:spPr>
          <a:xfrm>
            <a:off x="4114800" y="1981080"/>
            <a:ext cx="3117960" cy="23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1235116856_1235030663_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9280" y="-360"/>
            <a:ext cx="8209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 основе любого архитектурного сооружения лежат геометрические фигуры и тел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400px-Hexahedron"/>
          <p:cNvPicPr/>
          <p:nvPr/>
        </p:nvPicPr>
        <p:blipFill>
          <a:blip r:embed="rId1"/>
          <a:stretch/>
        </p:blipFill>
        <p:spPr>
          <a:xfrm>
            <a:off x="0" y="1828800"/>
            <a:ext cx="3043080" cy="338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20070921021819"/>
          <p:cNvPicPr/>
          <p:nvPr/>
        </p:nvPicPr>
        <p:blipFill>
          <a:blip r:embed="rId2"/>
          <a:stretch/>
        </p:blipFill>
        <p:spPr>
          <a:xfrm>
            <a:off x="2819520" y="397656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image11271"/>
          <p:cNvPicPr/>
          <p:nvPr/>
        </p:nvPicPr>
        <p:blipFill>
          <a:blip r:embed="rId3"/>
          <a:stretch/>
        </p:blipFill>
        <p:spPr>
          <a:xfrm>
            <a:off x="5791320" y="1752480"/>
            <a:ext cx="3063600" cy="3063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1685"/>
          <p:cNvPicPr/>
          <p:nvPr/>
        </p:nvPicPr>
        <p:blipFill>
          <a:blip r:embed="rId4"/>
          <a:stretch/>
        </p:blipFill>
        <p:spPr>
          <a:xfrm>
            <a:off x="5486400" y="4529160"/>
            <a:ext cx="349236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23563529380f9"/>
          <p:cNvPicPr/>
          <p:nvPr/>
        </p:nvPicPr>
        <p:blipFill>
          <a:blip r:embed="rId1"/>
          <a:stretch/>
        </p:blipFill>
        <p:spPr>
          <a:xfrm>
            <a:off x="3467160" y="0"/>
            <a:ext cx="5676840" cy="40006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505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названии усыпальниц египетских фараонов используется наз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5"/>
          <p:cNvPicPr/>
          <p:nvPr/>
        </p:nvPicPr>
        <p:blipFill>
          <a:blip r:embed="rId2"/>
          <a:srcRect l="0" t="0" r="0" b="9791"/>
          <a:stretch/>
        </p:blipFill>
        <p:spPr>
          <a:xfrm>
            <a:off x="0" y="354168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334120" y="4114800"/>
            <a:ext cx="380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странствен-ной геометрической фигуры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ирамиды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343040" y="6858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нализ египетских пирамид показывает, что египтяне всегда стремились воплотить в своих пирамидах некоторые важные математические знания. В этом отношении весьма интересной является пирамида Хефрена. Измерения пирамиды показали, что угол наклона боковых граней в ней равен 53°12', что отвечает отношению катетов прямоугольного треугольника 4:3. Такое отношение катетов соответствует хорошо известному прямоугольному треугольнику со сторонами 3:4:5, который называют "совершенным", "священным" или "египетским" треуг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E:\Documents\Катя\eg101207-7.jpg"/>
          <p:cNvPicPr/>
          <p:nvPr/>
        </p:nvPicPr>
        <p:blipFill>
          <a:blip r:embed="rId1"/>
          <a:stretch/>
        </p:blipFill>
        <p:spPr>
          <a:xfrm>
            <a:off x="0" y="225360"/>
            <a:ext cx="4389480" cy="3541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http://gazpromschool.by.ru/projects/geometry/tr/images/tr113_2a1.gif"/>
          <p:cNvPicPr/>
          <p:nvPr/>
        </p:nvPicPr>
        <p:blipFill>
          <a:blip r:embed="rId2"/>
          <a:stretch/>
        </p:blipFill>
        <p:spPr>
          <a:xfrm>
            <a:off x="1219320" y="3352680"/>
            <a:ext cx="3578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еометрические фигуры окружают нас постоянно в обычной жизни, а знание их свойств облегчает человеку его существ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е геометрические формы «ладят» друг с другом.  Здания строятся в определённом порядке. Архитектор строго учитывает их формы при проектировании го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3889440" cy="4132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PH02053J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724280" y="914400"/>
            <a:ext cx="4176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рмитаж в Петербург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StPeter-symniy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25780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этом зда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еобладают чет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инии и прямые угл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то очень схож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 такой фигур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прямоуго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араллепип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3" descr="zimniy"/>
          <p:cNvPicPr/>
          <p:nvPr/>
        </p:nvPicPr>
        <p:blipFill>
          <a:blip r:embed="rId1"/>
          <a:stretch/>
        </p:blipFill>
        <p:spPr>
          <a:xfrm>
            <a:off x="0" y="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324183_25"/>
          <p:cNvPicPr/>
          <p:nvPr/>
        </p:nvPicPr>
        <p:blipFill>
          <a:blip r:embed="rId2"/>
          <a:stretch/>
        </p:blipFill>
        <p:spPr>
          <a:xfrm>
            <a:off x="5219640" y="4006800"/>
            <a:ext cx="3924360" cy="2851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zimniy_dvorec_1"/>
          <p:cNvPicPr/>
          <p:nvPr/>
        </p:nvPicPr>
        <p:blipFill>
          <a:blip r:embed="rId3"/>
          <a:stretch/>
        </p:blipFill>
        <p:spPr>
          <a:xfrm>
            <a:off x="0" y="3719520"/>
            <a:ext cx="536400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саакиевский со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93432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1938"/>
          <p:cNvPicPr/>
          <p:nvPr/>
        </p:nvPicPr>
        <p:blipFill>
          <a:blip r:embed="rId1"/>
          <a:stretch/>
        </p:blipFill>
        <p:spPr>
          <a:xfrm>
            <a:off x="468360" y="493560"/>
            <a:ext cx="8028000" cy="636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26T14:59:5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